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A5D-BD5B-463A-84C2-D09D0280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5D53-E6BA-4ED0-BB4C-96058681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6FB-AAD9-4713-842C-E87E630F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E2D-0C91-4551-90E6-0A8E1C4E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7E1-5F29-4839-8AA2-2A766B42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ED2-D777-41CE-8FCF-9389636B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16D-E9B8-4733-9CDF-4C7BE7B6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615-0862-484D-9D44-8786973F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31E-E223-465F-97F0-493D1D23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6DE-E557-4359-9191-F102C1D6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1F4-5EA8-499B-B765-98B229F4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651-C5E5-495B-889B-C4BC8A91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2D2C-7C0F-491E-8ABB-137A9FC6B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316" descr=""/>
          <p:cNvPicPr/>
          <p:nvPr/>
        </p:nvPicPr>
        <p:blipFill>
          <a:blip r:embed="rId1"/>
          <a:stretch/>
        </p:blipFill>
        <p:spPr>
          <a:xfrm>
            <a:off x="-609480" y="-380880"/>
            <a:ext cx="6781680" cy="845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6172200" y="-380880"/>
            <a:ext cx="2971800" cy="10701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بانا نرفعُ إسمَكَ الكريم أبانا نحمَدُ حُبَّكَ العظ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أنتَ ربُّنا ونشيدُ حمْدِنا نهتِفُ 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رنيمُ الطي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َحكي حُبَّ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رفعُ الصُّخ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وتَ سُبح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كراً لكَ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داً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968075CjKGRKnhq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7280" y="0"/>
            <a:ext cx="327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نسبحُ اسمَك ليلاً ونه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أنتَ إلهنا قدّوسٌ وب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نحمدُ اسمَ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ونُعَلّي شخصَ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نسجُدُ ل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316" descr=""/>
          <p:cNvPicPr/>
          <p:nvPr/>
        </p:nvPicPr>
        <p:blipFill>
          <a:blip r:embed="rId1"/>
          <a:stretch/>
        </p:blipFill>
        <p:spPr>
          <a:xfrm>
            <a:off x="-609480" y="-380880"/>
            <a:ext cx="6781680" cy="845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6172200" y="-380880"/>
            <a:ext cx="2971800" cy="10701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بانا نرفعُ إسمَكَ الكريم أبانا نحمَدُ حُبَّكَ العظ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أنتَ ربُّنا ونشيدُ حمْدِنا نهتِفُ 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رنيمُ الطي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َحكي حُبَّ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رفعُ الصُّخ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وتَ سُبح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كراً لكَ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داً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0:49:09Z</dcterms:created>
  <dc:creator>USER</dc:creator>
  <dc:description/>
  <dc:language>en-US</dc:language>
  <cp:lastModifiedBy>USER</cp:lastModifiedBy>
  <dcterms:modified xsi:type="dcterms:W3CDTF">2003-01-18T09:18:53Z</dcterms:modified>
  <cp:revision>3</cp:revision>
  <dc:subject/>
  <dc:title>PowerPoint Presentation</dc:title>
</cp:coreProperties>
</file>